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9AD9-C6E6-4917-BC8D-B0D35B96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CF3-9265-40CD-AE01-E32CAC14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669-8446-4D65-9524-B6769D0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694-3F37-42B3-ADDE-4C03E8B3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470-802D-4939-85B0-59F479C9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A352-2E60-4320-95B7-FE20E1B2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C236-0092-4666-854B-403C298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30A-7CC6-4FF6-A3B9-39DFDFA5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FC2-A17B-467A-A8A6-396DBF89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F6C-5E43-4FF3-AD09-48CFAE2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16C5-E488-4B84-AB71-10B0D5D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E77-F6F0-4771-ADCD-BD5F99B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560-93C0-4501-A8B1-3F66E0A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3BA-F34C-45F0-951B-C23486A2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500-5D8D-4B0D-BFB6-53243F0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8E2-82A3-46A3-8C6C-69F356A0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1F77-E749-47E2-B78B-49E7335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3C6-106E-4CD7-9F9A-84784250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839-4CE8-4A86-B41D-F2CAE1A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85A-0E50-4B40-A0A8-6984DAC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2A3-AD22-49C7-8C5B-0A6069C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F2D-4C53-422C-AB8C-0076015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88F-C3ED-4BDE-BFE4-A527603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21-C237-4DEE-ADA0-43B8DF4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625-8DDF-4DF2-85E0-8FCFC6E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3A9-FFDD-474E-9D6B-17E59DC307A1}" type="datetime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681-9B4D-4058-B37F-7D455147B19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DAFB-BE98-43CB-9385-2A889566743E}" type="datetime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8B7B-4DC8-4CB2-8DB8-EED6799340E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5160" y="939960"/>
            <a:ext cx="6093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Third Year Project</a:t>
            </a:r>
            <a:br>
              <a:rPr sz="28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 term Project Presen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Fourier Synthesizer for Time-Periodic Sign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ltan Rashid                   Humaid Bakhit                       Obaid Humai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 1158                              ID 1223                                   ID 124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upervisor: Dr. R. Shubai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5 April 200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5AC-BBC0-4509-830C-36BD5F6C67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419112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lement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 sawtooth signal 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181840" cy="4000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274320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    a0=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(n)=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(n)=2*cos(n*pi)/(pi*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A3C-7066-4F37-95F9-93FE452748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 the triangular signal 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21337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905120"/>
            <a:ext cx="3200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0=3*pi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n)=6/n^2*pi*(cos(n*pi)-1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n)=0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D5B-E44B-4D4C-BD58-77D3E1E0D2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Square signal 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3124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0=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(n)=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(n)=1/(n*pi)*(1-cos(n*pi)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FD9-5665-4469-81E2-5F6940200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6290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nal System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8001000" cy="5448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762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809"/>
                </a:solidFill>
                <a:latin typeface="Times New Roman"/>
              </a:rPr>
              <a:t>Graphical User Interfa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7F2-0171-4B4F-9B83-8F6C52E7B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lan action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828800"/>
          <a:ext cx="8076960" cy="2971080"/>
        </p:xfrm>
        <a:graphic>
          <a:graphicData uri="http://schemas.openxmlformats.org/drawingml/2006/table">
            <a:tbl>
              <a:tblPr/>
              <a:tblGrid>
                <a:gridCol w="1523880"/>
                <a:gridCol w="65530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omplete Program for one type of signal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neralize the program for more periodic signal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est the program for different cases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ontinue testing of program &amp; Progress Presentation </a:t>
                      </a:r>
                      <a:endParaRPr b="0" lang="en-US" sz="1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879-37CE-435A-B8BA-CB43FCBAC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447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21932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harmonic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THEOREM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program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A03-291F-43B2-888C-D172313E91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y QUES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2" name="BD00028_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096240" cy="45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065-9388-46E1-8787-A13CC52BB4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372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als of object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ystem functional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ject Specific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ject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nal syste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837-19A6-4284-A4D9-ED157EA886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85600" y="990360"/>
            <a:ext cx="6458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ier Synthesiz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952560" indent="-3808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finit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2560" indent="-3808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y it’s important 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091-8A90-41BF-9415-1AFE50200D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oals of objectiv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00200"/>
            <a:ext cx="6248160" cy="22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Aim of the project is to Design and implement a Matlab-based program for synthesizing different periodic signals.  This involve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- Finding the Sinusoidal Fourier Series of commonly-used periodic signal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- Convert derived expressions into Matlab cod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3- Analysis of Matlab program to study effect of increasing harmonic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4- Build a Graphical-User Interface to facilitate the use of the progra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b28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092-2513-49EF-951B-14BDD56E0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ystem functionality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put &amp; User Interfa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Select the type of signal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Insert the number of harmonic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Signal shap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36576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FF6-D054-4984-8A9A-85119FFD0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95280"/>
            <a:ext cx="81536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1 :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our initial program in the Matlab ,that is designed to get a periodic sign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he user should insert his  function &amp; open the program to enter frequency and harmonics then save i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809880"/>
            <a:ext cx="8076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2 :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writing the  expression of the function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use Fourier series to find the summation of the coefficients to draw the 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F3E-AE98-44BF-8BBF-70E8D03F13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371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371600"/>
            <a:ext cx="78483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3 :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the program to ask the user automatically  to inser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 frequency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 harmonics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ber of cycles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her than opening the program to change the coefficient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ave it  which is wasting the time 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6FD-241F-4CDB-814F-25444D0AE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ject specific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44792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4 :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ifferent  type of sign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stage we search fo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ier series constants an &amp; b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books and (WEB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t  many types of periodic sig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6AD-0706-4C19-9B96-247B16335E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 of harmonics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Law_of_Superposition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857680" cy="49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3C8-9061-477E-969D-22DBC7EBF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tisalat College</cp:lastModifiedBy>
  <cp:lastPrinted>2003-04-14T14:00:07Z</cp:lastPrinted>
  <dcterms:modified xsi:type="dcterms:W3CDTF">2003-04-15T05:14:37Z</dcterms:modified>
  <cp:revision>55</cp:revision>
  <dc:subject/>
  <dc:title>                Third Year Project   </dc:title>
</cp:coreProperties>
</file>