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4CDC-2BC7-4893-8245-35985AA71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252-AF68-43F4-ADAA-07E896AB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A191-7774-4DD9-B511-85A9E6C9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EBA-FB36-4C8E-BD50-AE52050F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690-510A-44B0-BDDF-BCC4D20F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7E01-5BCC-4E58-BEE8-18B8BE7D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18E2-2298-4EA7-A50D-8039AF5E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2A9D-81FF-401F-A03C-457E6E75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CD21-47F5-4A24-920F-8E1786B7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14FB-8003-4E14-B4D5-59611085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7C4D-34A1-4A1D-816C-93C28CC5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BF42-8790-491B-A0A9-72DF6330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330-4FD7-44E1-B039-08DDB5A9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0EC8-A2DB-43EE-AD56-20E98D1F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5F03-38C6-49D8-9F54-65AA4390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0411-354F-46E0-B097-08B8BB0E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60FA-89D8-4A41-B346-D39C22C3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837B-E406-4CD8-9181-064CFBD1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1BC5-61C9-4F58-A8B4-54F2E80B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50DA-8AD3-4A15-ADB7-543C46AE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B830-179E-401A-8F63-FB55A8E5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326-A473-4D0D-8532-DD074283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34B-B018-462A-85A0-FE52F701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F82-2ACF-4076-8025-F1FC45D0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31AA-04BB-411D-A46D-2C256889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F256-769A-4A98-993A-0ED10347FF65}" type="datetime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6E8D-2599-4A48-92F2-6517D642AB5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6AE7-6997-4B1B-B026-5B2F455AD68E}" type="datetime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4353-E01C-4597-BE96-51B5A402A3B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5160" y="939960"/>
            <a:ext cx="60930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Third Year Project</a:t>
            </a:r>
            <a:br>
              <a:rPr sz="2800"/>
            </a:b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nitial Project Presen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d7a"/>
                </a:solidFill>
                <a:latin typeface="Times New Roman"/>
              </a:rPr>
              <a:t>Fourier Synthesizer for Time-Periodic Signa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ultan Rashid                   Humaid Bakhit                       Obaid Humai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D 1158                              ID 1223                                   ID 1242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upervisor: Dr. R. Shubai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11 March 2003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7C9C-2A0B-4B15-B795-9EA3992024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ny QUES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3" name="BD00028_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096240" cy="45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8F79-F3BF-4FC9-8E2D-FC9EBE8452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13726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oals of objectiv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ject Specific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ject pl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nal system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74C7-3CA2-4AF8-9A4C-911F66E8628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85600" y="990360"/>
            <a:ext cx="64580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is the Fourier Synthesiz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ier Series of Periodic Signal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57F-AF54-4309-A550-23C1A976343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13726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oals of objectiv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133720"/>
            <a:ext cx="6248160" cy="22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esign and implement a Matlab-based program for synthesizing different periodic signals.  This involves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- Finding the Sinusoidal Fourier Series of commonly-used periodic signal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2- Convert derived expressions into Matlab cod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3- Analysis of Matlab program to study effect of increasing harmonic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4- Build a Graphical-User Interface to facilitate the use of the program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354F-1AC3-48B0-AC89-45D24AF9F4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ject specifi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356400" indent="-3564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se Matlab – Why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- Powerfu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- Many functions and faciliti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-User Friendl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-Strong Graphical User Interface tool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-3564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put &amp; User Interf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- Funct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- The range of inpu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-The Fourier series coefficient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-3564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- Signal shape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36576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CA7-8AD1-405A-9CB3-2A60823477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ject specifi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447920"/>
            <a:ext cx="739116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unctions of Syste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- Effect of harmonic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3526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590920"/>
            <a:ext cx="731520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Exampl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No of harmonic component = 5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4114800" cy="308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6172200" y="2971800"/>
          <a:ext cx="267660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2971800"/>
                    <a:ext cx="2676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172200" y="4191120"/>
          <a:ext cx="274320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2200" y="4191120"/>
                    <a:ext cx="27432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6048360" y="5105520"/>
          <a:ext cx="3095640" cy="666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48360" y="5105520"/>
                    <a:ext cx="30956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562720" y="2971800"/>
          <a:ext cx="685800" cy="50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62720" y="2971800"/>
                    <a:ext cx="6858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638680" y="4267080"/>
          <a:ext cx="590760" cy="438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638680" y="4267080"/>
                    <a:ext cx="5907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257800" y="5181480"/>
          <a:ext cx="923760" cy="381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257800" y="5181480"/>
                    <a:ext cx="9237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202-972C-450A-A4BA-504413662D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ject specifi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1600200"/>
            <a:ext cx="236232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No of harmonic component = 10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8596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505320" y="1371600"/>
            <a:ext cx="3276360" cy="2457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62908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2120" y="4952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No of harmonic component = 30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4809-7C23-4DD6-AB8C-2AAD7B0C23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819520" y="876240"/>
            <a:ext cx="4267080" cy="5105520"/>
          </a:xfrm>
          <a:prstGeom prst="rect">
            <a:avLst/>
          </a:prstGeom>
          <a:solidFill>
            <a:srgbClr val="cec8ba"/>
          </a:solidFill>
          <a:ln w="936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685800"/>
            <a:ext cx="1828800" cy="4876920"/>
          </a:xfrm>
          <a:prstGeom prst="rect">
            <a:avLst/>
          </a:prstGeom>
          <a:solidFill>
            <a:srgbClr val="cec8ba"/>
          </a:solidFill>
          <a:ln w="936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6248520"/>
            <a:ext cx="121896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67480" y="6248520"/>
            <a:ext cx="1676520" cy="380880"/>
          </a:xfrm>
          <a:prstGeom prst="rect">
            <a:avLst/>
          </a:prstGeom>
          <a:gradFill rotWithShape="0">
            <a:gsLst>
              <a:gs pos="0">
                <a:srgbClr val="dff6f9"/>
              </a:gs>
              <a:gs pos="50000">
                <a:srgbClr val="667172"/>
              </a:gs>
              <a:gs pos="100000">
                <a:srgbClr val="dff6f9"/>
              </a:gs>
            </a:gsLst>
            <a:lin ang="54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Exi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905120"/>
            <a:ext cx="18288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quare wav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74320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iangular wav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342900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wtooth wav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11480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ipolar wav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480060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tangular wav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1600200"/>
            <a:ext cx="1371600" cy="914400"/>
          </a:xfrm>
          <a:prstGeom prst="rect">
            <a:avLst/>
          </a:prstGeom>
          <a:gradFill rotWithShape="0">
            <a:gsLst>
              <a:gs pos="0">
                <a:srgbClr val="dff6f9"/>
              </a:gs>
              <a:gs pos="100000">
                <a:srgbClr val="667172"/>
              </a:gs>
            </a:gsLst>
            <a:lin ang="5400000"/>
          </a:gradFill>
          <a:ln w="936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0120" y="2971800"/>
            <a:ext cx="1371600" cy="838080"/>
          </a:xfrm>
          <a:prstGeom prst="rect">
            <a:avLst/>
          </a:prstGeom>
          <a:gradFill rotWithShape="0">
            <a:gsLst>
              <a:gs pos="0">
                <a:srgbClr val="dff6f9"/>
              </a:gs>
              <a:gs pos="100000">
                <a:srgbClr val="667172"/>
              </a:gs>
            </a:gsLst>
            <a:lin ang="5400000"/>
          </a:gradFill>
          <a:ln w="936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lo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0120" y="4267080"/>
            <a:ext cx="1371600" cy="838440"/>
          </a:xfrm>
          <a:prstGeom prst="rect">
            <a:avLst/>
          </a:prstGeom>
          <a:gradFill rotWithShape="0">
            <a:gsLst>
              <a:gs pos="0">
                <a:srgbClr val="dff6f9"/>
              </a:gs>
              <a:gs pos="100000">
                <a:srgbClr val="667172"/>
              </a:gs>
            </a:gsLst>
            <a:lin ang="5400000"/>
          </a:gradFill>
          <a:ln w="936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914400"/>
            <a:ext cx="176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the type of the sign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96080" y="914400"/>
            <a:ext cx="18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ec8ba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560" y="5715000"/>
            <a:ext cx="1720080" cy="36828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.of harmonic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2908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               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inal System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F26-C260-4438-9DA5-387CF4DC27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762120" y="1143000"/>
          <a:ext cx="8076960" cy="5137200"/>
        </p:xfrm>
        <a:graphic>
          <a:graphicData uri="http://schemas.openxmlformats.org/drawingml/2006/table">
            <a:tbl>
              <a:tblPr/>
              <a:tblGrid>
                <a:gridCol w="1523520"/>
                <a:gridCol w="6553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Wee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ask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troduction &amp;distribution of Project list 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Finalizing groups &amp; Finalizing project selection 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earning how to plot in the MATLAB &amp; Collecting equations for Fourier series 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reparation for first project Presentation 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First Project Presentation 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Complete Program for one type of signals 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Generalize the program for more periodic signals 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est the program for different cases 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Continue testing of program &amp; Progress Presentation 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Complete design of graphical interface 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Writing Final project Report 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reparation For final project presentation Complete design of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636-6D6A-4FC8-9599-220AA1C93E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tisalat College</cp:lastModifiedBy>
  <cp:lastPrinted>2003-03-10T17:11:32Z</cp:lastPrinted>
  <dcterms:modified xsi:type="dcterms:W3CDTF">2003-03-12T06:50:35Z</dcterms:modified>
  <cp:revision>28</cp:revision>
  <dc:subject/>
  <dc:title>                Third Year Project   </dc:title>
</cp:coreProperties>
</file>