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B9F2-CEDB-4F89-82F8-3E220B76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D563-F9A1-48B5-9D99-4CE0EBD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500F-E376-48C4-A158-D8984B5C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ECDC-C0B8-4253-8574-FFB597A3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1CA1-901D-4EBA-AE8E-4AF88382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A807-BDC7-4F24-8C8B-3F28A7FF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C75C-4EFF-4982-8A43-0210DB9A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8DF0-94FE-4EA2-B0F6-B7711F9A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3882-39AA-48D4-935D-0F03ACA3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FAC-DEBB-4715-82BF-EB496F05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CA58-158E-44E7-9BDA-E0EEAED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4B8B-DD81-4CD8-A613-46CEA5C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99F-1D44-4369-B952-371EDBA4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2B7F-FA42-49BE-A597-C6777BA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62DF-EC63-4329-BA08-B5A1B931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8B3B-5BDD-42DA-B5A4-CC20F537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9A01-2A8B-40AC-B974-C3558BD4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E2C3-CA97-4FA1-9447-09387EC6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8A5E-1CB8-4085-AAE6-816CB9B2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E40F-CB01-4AB8-B918-37962B08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D3C6-90D9-4DC5-A8CE-FD2B282D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E820-27F6-44A0-AA47-62AD7A00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A949-AFF6-4378-8D6C-9B5EC11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6E79-0402-4BD4-9DE2-35FD3901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1F40-4990-4B66-AE58-CE045405D6B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B4A9-3981-4DD9-A180-7CE2B145287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1268280"/>
            <a:ext cx="7777440" cy="865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2781360"/>
            <a:ext cx="5040360" cy="21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Year 4 Computer Str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2205000"/>
            <a:ext cx="482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2924280"/>
            <a:ext cx="475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Majid Al Marri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1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Omar Al Bak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11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Ahmed Hassa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ahemd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hemd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hemd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476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628640"/>
            <a:ext cx="86868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ributes Mod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ructure Floors 2 an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h Server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374508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844640"/>
            <a:ext cx="921708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sk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Process programming (Main pa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Assisting in modeling and investigating proc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cing the concept of priority to the network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341360"/>
            <a:ext cx="417672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 S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1052640"/>
            <a:ext cx="345600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751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9640" y="981000"/>
            <a:ext cx="309564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9880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10667880" cy="662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907920"/>
            <a:ext cx="388800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-C Pla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rimary plac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Edit Code Blo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ate Block (Declare State Vari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315200" cy="190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981000"/>
            <a:ext cx="475308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 And Exit Execu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829800" cy="6019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4360" y="1052640"/>
            <a:ext cx="561636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71640" y="2276640"/>
            <a:ext cx="3961080" cy="143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PRES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2057400"/>
            <a:ext cx="7543800" cy="45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68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ffer distinguish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68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68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68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68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68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going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219320"/>
            <a:ext cx="380988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38862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038480"/>
            <a:ext cx="60948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350532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350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6576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Arr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809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07120" y="38098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3276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581280"/>
            <a:ext cx="17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ing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1341360"/>
            <a:ext cx="187164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692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844640"/>
            <a:ext cx="8604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ing the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ing the system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nging the network mod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nging the process program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90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143000"/>
            <a:ext cx="426708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523880"/>
            <a:ext cx="8458200" cy="60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eling a small enterprise networ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mulation of the model and then researching the        out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centrating on the Quality of Servic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ing users priority after expanding the               networ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y Questions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5640" y="3573360"/>
            <a:ext cx="45370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276640"/>
            <a:ext cx="828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pperplate Gothic Bold"/>
              </a:rPr>
              <a:t>A Project Supervised By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pperplate Gothic Bol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357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Dr. Arif Sultan Al-Hamma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pperplate Gothic Bold"/>
              </a:rPr>
              <a:t>Modeling And Analysis Of A Small Enterprise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Networ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7487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 and Subtas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341360"/>
            <a:ext cx="295128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1341360"/>
            <a:ext cx="482436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9228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Specific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700280"/>
            <a:ext cx="7632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put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etwork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700280"/>
            <a:ext cx="86868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 User Interface (GU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143000"/>
            <a:ext cx="280836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549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752480"/>
            <a:ext cx="8686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Specify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Specify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P-UP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rag to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197000"/>
            <a:ext cx="2521080" cy="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ahemd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8:27:50Z</dcterms:created>
  <dc:creator>USER</dc:creator>
  <dc:description/>
  <dc:language>en-US</dc:language>
  <cp:lastModifiedBy>Omar</cp:lastModifiedBy>
  <dcterms:modified xsi:type="dcterms:W3CDTF">2003-03-08T18:39:24Z</dcterms:modified>
  <cp:revision>72</cp:revision>
  <dc:subject/>
  <dc:title>Modeling And Analysis Of A Small Enterprise Network</dc:title>
</cp:coreProperties>
</file>