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EC4-3C2F-4C03-85CD-78FA571A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977-A3AB-4CDF-9967-8FB749C4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DE9-A85B-451D-A689-EC1799E2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CAE-EBB4-46E6-B15B-9B6D8F90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B824-8B47-4A06-A4B1-6065B9BD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1988-7B85-4187-A41E-5D93CE8B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9E59-D0AE-4613-B6EE-1936E279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5736-45BD-47B9-A72E-EAA0ABF6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AA92-D524-45AF-AD07-F752F8F1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61BF-1823-4100-9719-089CF4EA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0D22-450E-4E21-9B59-F1BF561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80B-D7D7-4EE4-B833-45ED499E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6360-EF1A-43A7-8764-4CAFB106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32D4-BACD-47FE-94D4-CFA1A9A7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8B43-C212-441F-9437-36D6D0E8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E824-CAA0-43A8-8405-09DA52A5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E8B7-5440-4F8D-AD01-CB1A7840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538-93C6-44D6-8FA5-CD2D9D97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4F4-682B-4807-AE9D-6C32F34D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5C9-A252-41FC-BDEA-030C04A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F04-89C5-4BFB-9A3A-82524C2B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A38-092B-445C-AC9B-F8230A16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E2C-CEEA-4AEF-BFC8-58AF23FB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A28-606C-4014-A1F1-CB86D2B8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CB3C-0E59-4ACE-B289-073FE8F89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7ED0-0203-4512-A857-30279E4196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7400" y="3505320"/>
            <a:ext cx="54864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hmed Abdulla Al Jallaf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1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hmad Majed Al Flasi            1207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halid Salem Bani Hammad   12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Supervisor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Mr. Ahmed Bent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ojec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19810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udents’ 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31240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eb page desig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mad Al Jall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GI scrip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h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sting CGI on web pag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lculating the total number (by using Visual C++)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mad Maj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20574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sk Divis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Modifi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7621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27360" y="828720"/>
            <a:ext cx="32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’ Atten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62120" y="2971800"/>
          <a:ext cx="7467480" cy="3276720"/>
        </p:xfrm>
        <a:graphic>
          <a:graphicData uri="http://schemas.openxmlformats.org/drawingml/2006/table">
            <a:tbl>
              <a:tblPr/>
              <a:tblGrid>
                <a:gridCol w="1866960"/>
                <a:gridCol w="1866600"/>
                <a:gridCol w="1866960"/>
                <a:gridCol w="186696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 of 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ne 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s Occurr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e4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ing the attendance fo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hmed Al – Jalla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/4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GI Scrip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ali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/4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++ Co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hmed AL-Flas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/4/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352680" y="2133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eview Of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066680" y="2743200"/>
          <a:ext cx="685800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68580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76212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90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terim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914400" y="2610000"/>
          <a:ext cx="708660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610000"/>
                    <a:ext cx="708660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68580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190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terim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914400" y="2433600"/>
          <a:ext cx="7467480" cy="41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3600"/>
                    <a:ext cx="74674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6212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190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terim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914400" y="2562120"/>
          <a:ext cx="7238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62120"/>
                    <a:ext cx="7238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53352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terim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594160" y="91440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8954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ank you for your attention 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8120" y="91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ation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286000"/>
            <a:ext cx="4572000" cy="43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Int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New Spec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lan Of 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lan Of Action (Modifi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Reviews &amp;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2767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need of this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* Replacing the attendance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518148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bjective of the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* Designing web t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81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w Specif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514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*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put :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297180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ken from a web 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lecting present and absent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76520" y="762120"/>
            <a:ext cx="6553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the 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Example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8610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81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w Specif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2514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*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put :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809880"/>
            <a:ext cx="4876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*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419112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ored on server as a text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nted as web p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verwrite the ol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48640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*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943600"/>
            <a:ext cx="7086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king the input from the web page and store it in the data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alculating the number of present and ab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97180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ken from a web 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lecting present and absent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94160" y="91440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523880" y="243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6324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6248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6248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2666880"/>
            <a:ext cx="243864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3809880"/>
            <a:ext cx="243828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5029200"/>
            <a:ext cx="19051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20040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441972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556272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962520" y="2590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590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057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94160" y="91440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74880" y="2685960"/>
            <a:ext cx="687996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Task 1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Understanding the project: All members will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Task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signing the form: Ahmad Al Jall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cripting: Kh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ding: Ahmad Al Fl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Task 3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esting &amp; validating: All members will 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ubmitting: All members will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1981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27360" y="828720"/>
            <a:ext cx="32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’ Atten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990720" y="25905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601992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429000"/>
            <a:ext cx="19051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 The web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3733920"/>
            <a:ext cx="1600200" cy="3045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GI Scrip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114800"/>
            <a:ext cx="12193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++ Co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7180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8440" y="601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4928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280" y="57466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4000" y="22161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971800" y="26668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181480" y="26668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3733920"/>
            <a:ext cx="609480" cy="30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743200"/>
            <a:ext cx="198108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derstanding The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048120"/>
            <a:ext cx="45720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3429000"/>
            <a:ext cx="30456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114800"/>
            <a:ext cx="99036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4419720"/>
            <a:ext cx="45720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4800600"/>
            <a:ext cx="60984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 /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5105520"/>
            <a:ext cx="76176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5410080"/>
            <a:ext cx="160020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al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91320" y="5943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5638680"/>
            <a:ext cx="53316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601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553080" y="5943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601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1905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asks Schedule (Modifi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429000" y="5943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886200" y="5943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43400" y="5943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5943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5640" y="601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2840" y="601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0040" y="601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804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3:07:11Z</dcterms:created>
  <dc:creator>Etisalat College</dc:creator>
  <dc:description/>
  <dc:language>en-US</dc:language>
  <cp:lastModifiedBy>Etisalat College</cp:lastModifiedBy>
  <dcterms:modified xsi:type="dcterms:W3CDTF">2003-04-15T05:02:48Z</dcterms:modified>
  <cp:revision>35</cp:revision>
  <dc:subject/>
  <dc:title>PowerPoint Presentation</dc:title>
</cp:coreProperties>
</file>