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17F-5488-4D63-8E14-C806EF30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048-6DAF-47B8-8720-9FCB9204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027-A4E2-4498-B679-D49C9F06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DD7-AB72-448B-848C-F4B6B97B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1C85-74DA-405B-92FC-4462BBC4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8D20-4125-4D9F-AD4E-EE389A1E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71DC-3313-4BAD-A613-3B2C10E8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E8CD-69A2-4F1D-9FDD-6DDBA4E7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9E68-17E9-4A80-907C-15520A54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F7DD-AAFD-47CB-84C2-2839B474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6593-635A-499D-8E84-B011D0EE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E64-DCA1-4050-9DFC-69CE7374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25E4-C6C2-42FE-AF6D-789275FD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A62D-8146-457D-8D12-47ABF36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5970-EFB8-4773-84BB-E8D8E55F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B522-72B6-4DE4-B5B6-DFD7C8D9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CD5D-020A-4863-A0E7-11B9EF85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AED1-2311-45D5-AC97-9DA2A81C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72B-1BFF-4973-BC8C-90A6E722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EB9-DAFC-48B1-AE66-C575036A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009-C313-488E-89FF-131682F4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16A-2533-4D11-BD8A-091B1EA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2C2-4949-4603-ADA8-ABAFAB48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263-D910-4433-9FF3-05EC1580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96FF-68D8-47C8-AEEE-988A6D4D83A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E69B-012E-4086-B5FD-95E6F047356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0" y="7621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882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roject I – Year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2362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tudents’ Attendance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3429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te : 11 Mar 200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4510080"/>
            <a:ext cx="84582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hmed Abdulla Al Jallaf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111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hmad Majed Al Flasi             1207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halid Salem Bani Hammad   122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Supervisor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Mr. Ahmed Bentib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594160" y="91440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523880" y="2437920"/>
            <a:ext cx="0" cy="3886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6324480"/>
            <a:ext cx="6858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6248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6248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39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58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2666880"/>
            <a:ext cx="2438640" cy="45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sk 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3809880"/>
            <a:ext cx="2438280" cy="533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sk 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0800" y="5029200"/>
            <a:ext cx="1905120" cy="45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sk 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960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e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3200400"/>
            <a:ext cx="6858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4419720"/>
            <a:ext cx="6858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96080" y="5562720"/>
            <a:ext cx="6858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962520" y="2590560"/>
            <a:ext cx="0" cy="3809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400800" y="2590560"/>
            <a:ext cx="0" cy="3733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2057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s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594160" y="91440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74880" y="2685960"/>
            <a:ext cx="68799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Task 1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All members will work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Task 2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signing the form: Ahmad Al Jallaf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ding and Scripting: Khalid and Ahmad Al Flas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Task 3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esting: Khalid and Ahmad Al Jallaf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ubmitting: Ahmad Al Flas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676520" y="762120"/>
            <a:ext cx="6553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2209680"/>
            <a:ext cx="2209680" cy="10670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king &amp;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derstanding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4267080"/>
            <a:ext cx="2210040" cy="1143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reating th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nal ver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29400" y="2209680"/>
            <a:ext cx="2209680" cy="10670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d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4120" y="4267080"/>
            <a:ext cx="2209680" cy="1143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alidat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2209680"/>
            <a:ext cx="2209680" cy="10670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signing th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0400" y="2743200"/>
            <a:ext cx="685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2743200"/>
            <a:ext cx="5335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15200" y="3276720"/>
            <a:ext cx="0" cy="99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647960" y="4800600"/>
            <a:ext cx="685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594160" y="91440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28954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Thank you for your attention !!!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7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7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75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8794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esentation Outl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73440" y="2685960"/>
            <a:ext cx="296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pecifi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lans of A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37160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981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2767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need of this projec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* Replacing the form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518148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bjective of the projec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* Designing a web tool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7920" y="838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udents’ Attendan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981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Requirement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2567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Wingdings"/>
                <a:ea typeface="Wingdings"/>
              </a:rPr>
              <a:t>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Web tool should include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311616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sign Attendance form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840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06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1905120" y="2743200"/>
          <a:ext cx="613404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743200"/>
                    <a:ext cx="613404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676520" y="762120"/>
            <a:ext cx="6553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ample of the form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447920" y="838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udents’ Attendan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981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Requirement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567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Wingdings"/>
                <a:ea typeface="Wingdings"/>
              </a:rPr>
              <a:t>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Web tool should include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311616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sign Attendance form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36576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ubmit the form on a websi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52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4191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sign a scripting language (CGI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840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47242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ore the output on the serv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406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7160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981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ecification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27432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* Input :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3352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Presented as a web pag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905120" y="2743200"/>
          <a:ext cx="613404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743200"/>
                    <a:ext cx="613404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1676520" y="762120"/>
            <a:ext cx="6553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ample of the input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37160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1981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ecification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27432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* Input :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3809880"/>
            <a:ext cx="4876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* Output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52480" y="4495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Stored on server as a text fi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510552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* Func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57150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Taking the input and store it in the databas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52480" y="3352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Presented as a web pag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3:07:11Z</dcterms:created>
  <dc:creator>Etisalat College</dc:creator>
  <dc:description/>
  <dc:language>en-US</dc:language>
  <cp:lastModifiedBy>Etisalat College</cp:lastModifiedBy>
  <dcterms:modified xsi:type="dcterms:W3CDTF">2003-03-11T05:11:07Z</dcterms:modified>
  <cp:revision>23</cp:revision>
  <dc:subject/>
  <dc:title>PowerPoint Presentation</dc:title>
</cp:coreProperties>
</file>