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FD8-9422-460D-BE9F-10B3FA02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FCA-55BD-4873-A6C1-E3C1D72D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F50-910F-49F5-B1CE-4AA37F2A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267-D077-48DD-BE88-B9D70E52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AD7D-3424-4877-8F03-7BC1C3B8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770F-31C7-418D-8522-9DCBEFBB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F020-93B3-4059-8AA6-6500D456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0B91-FD7E-4AD3-9648-D3F8752A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CDB3-F260-4F97-B558-B6B809F4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511B-B214-4001-9E49-C8373C69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F3E3-0CD6-44C8-977D-4CC02FF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887-291E-4146-90BA-6A8C79D9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8562-6972-4329-9C91-40110E13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35F4-11D7-47C3-BE5D-ECCD334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DCC4-77C4-42D6-8162-12530811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9893-82D5-4FFB-AC53-B346365C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532-D8B4-49A2-B41E-32A51BEC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1A5-88E7-466E-AFAF-F758708F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660-AD7E-4A0F-AAFA-6FDED7F8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35D-F60D-44FF-9238-9927E19C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56F-8447-4BA5-B550-FE312CC9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963-924F-4732-B558-90034E23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7D6-4F99-4484-9DC7-3D87D9EA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A12-1194-40C3-B53C-8712BCBE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6099-0D31-4DD9-AFFD-A085293F6C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DAC-FEEE-4E2A-AAA2-048B906F4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inux3.ece.ac.ae/~stdatd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981080"/>
            <a:ext cx="762012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ne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med Abdulla Al Jalla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1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mad Majed Al Flasi            120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alid Salem Bani Hammad   12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uperviso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r. Ahmed Benti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y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38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ject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143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tudents’ Atten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94160" y="9144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8954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Thank you for your attention !!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1981080"/>
            <a:ext cx="457200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rodu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ief background on su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ussion of the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nstration of the web to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lu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8800" y="53352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resentation's Outli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80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32767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need of this pro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Replacing the attendance form into a web t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51814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ctive of the pro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Designing web tool that takes the attend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124080" y="1676520"/>
            <a:ext cx="306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ntroduc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8280" y="1752480"/>
            <a:ext cx="4334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ef Backgroun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56716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es by CGI (Common Gateway Interf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ance of the inputs (Present and Absen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 chec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ing the 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228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flow%20chart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417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352680" y="1676520"/>
            <a:ext cx="2705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iscuss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819520"/>
            <a:ext cx="8305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ign Op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The Website Interface (HTM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CGI Scrip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C++ 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ccurrence of Probl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CGI Scrip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19520" y="1371600"/>
            <a:ext cx="3743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clus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514600"/>
            <a:ext cx="8077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umma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m: replace the attendance for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ebsite: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  <a:hlinkClick r:id="rId1"/>
              </a:rPr>
              <a:t>http://linux3.ece.ac.ae/~stdat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ing the inputs (Present or Absen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ission of the in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ing the resul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19520" y="1371600"/>
            <a:ext cx="3743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clus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51460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ritical Apprais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WEL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GI Scripts (for each grou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tendance forms not generated from a data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++ code not dynam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udents’ Attenda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19520" y="1371600"/>
            <a:ext cx="3743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clus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43828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ture Wo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cript that generates the IDs from data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entrance to the web to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ed students’ lists from data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3:07:11Z</dcterms:created>
  <dc:creator>Etisalat College</dc:creator>
  <dc:description/>
  <dc:language>en-US</dc:language>
  <cp:lastModifiedBy>Etisalat College</cp:lastModifiedBy>
  <dcterms:modified xsi:type="dcterms:W3CDTF">2003-05-19T20:36:16Z</dcterms:modified>
  <cp:revision>41</cp:revision>
  <dc:subject/>
  <dc:title>PowerPoint Presentation</dc:title>
</cp:coreProperties>
</file>