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D15EB-B013-4813-A730-7280F85B5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EA9B7-B509-4939-AD64-454F842A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8F0EB-DF3D-4F39-8BB1-A76A48572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79830-1AA0-413B-9EFE-6ACC00B02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5942-E4A8-48A8-B794-A2387029A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2D89-550F-4FFD-AEE1-EE291D93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4C30-4E2A-43AA-9B82-07FC4685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7D9B-FD5A-4C3F-8EBF-B2751734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521A-B85B-4848-84E3-6B75323B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3506-A166-4201-811E-3159AE6C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F303-6F62-4AD6-96D4-6A539D2F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D2078-FD67-440B-9163-B4E67A21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71BF8-8F1C-4D87-8FE2-DC0227A5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BAC8-CBE0-4A89-A996-239064A7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F7A3-5212-4219-88C8-D082BA88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EB8D4-D178-4FC8-83EB-597610E1E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DF78-5B13-4CBC-BE6E-86B884748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E8545-6409-4876-8DA8-4D5AB83B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F4EB7-DC09-4C13-BE15-FCAE2945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C8438-DCC1-43DC-B9B7-C8B0DF75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D6F15-AC3F-4EE0-8B8F-03F36A50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24EAE-A1A8-4A56-A981-D13FF758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3DDEE-3063-4A02-9A3E-62FB4FD4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70A5B-91E5-4B2B-B7E8-AC6B8F72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5560-7D46-493C-886F-C66221E653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DEAC-05E9-4E5E-A809-C28AD2EDAA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 rtl="1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 rtl="1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  <a:ea typeface="宋体"/>
              </a:rPr>
              <a:t>An Automatic Website Generator (WebGen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42560" y="1915920"/>
            <a:ext cx="698508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nitial Presentation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Group Member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hmed Abdulah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1208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aser Al-zaabi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1239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brahim Al-Jarwan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1224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Superviso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rof. David Vern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nu sty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宋体"/>
              </a:rPr>
              <a:t>Read style’s parameters in menu_array_style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宋体"/>
              </a:rPr>
              <a:t>tx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宋体"/>
              </a:rPr>
              <a:t>The variable must be well commented to modify the style of the menu items easil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宋体"/>
              </a:rPr>
              <a:t>The program will insert the menu items in the menu_array.js taken from the data structure</a:t>
            </a:r>
            <a:r>
              <a:rPr b="0" lang="ar-AE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宋体"/>
              </a:rPr>
              <a:t>in a way recognized</a:t>
            </a:r>
            <a:r>
              <a:rPr b="0" lang="ar-AE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宋体"/>
              </a:rPr>
              <a:t>from the javascript script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ject tasks &amp; schedule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宋体"/>
              </a:rPr>
              <a:t>Checking fil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宋体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宋体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宋体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宋体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  <a:ea typeface="宋体"/>
              </a:rPr>
              <a:t>(By Naser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宋体"/>
              </a:rPr>
              <a:t>The syntax of the menutree.tx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宋体"/>
              </a:rPr>
              <a:t>Reading the menutree.tx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宋体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宋体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  <a:ea typeface="宋体"/>
              </a:rPr>
              <a:t>(By Ibrahi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宋体"/>
              </a:rPr>
              <a:t>Storing items in a data structu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宋体"/>
              </a:rPr>
              <a:t>Extracting menu items from 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宋体"/>
              </a:rPr>
              <a:t>Generates the HTML files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宋体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  <a:ea typeface="宋体"/>
              </a:rPr>
              <a:t>(By Ahmad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宋体"/>
              </a:rPr>
              <a:t>Reading style’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宋体"/>
              </a:rPr>
              <a:t>from menu_array_style.txt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宋体"/>
              </a:rPr>
              <a:t>Link menu ite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ject tasks &amp; schedu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1916280"/>
            <a:ext cx="122400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87280" y="2492280"/>
            <a:ext cx="1873440" cy="503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87640" y="3068640"/>
            <a:ext cx="1440000" cy="503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esign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00720" y="3068640"/>
            <a:ext cx="1223640" cy="503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mp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96000" y="3068640"/>
            <a:ext cx="1008000" cy="503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87640" y="3716280"/>
            <a:ext cx="1440000" cy="503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esig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00720" y="3716280"/>
            <a:ext cx="1223640" cy="503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mp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3716280"/>
            <a:ext cx="1008000" cy="503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96000" y="4365720"/>
            <a:ext cx="1008000" cy="503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00720" y="4365720"/>
            <a:ext cx="1223640" cy="503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mp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4365720"/>
            <a:ext cx="1440000" cy="503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esig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16720" y="5013360"/>
            <a:ext cx="151272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nteg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36000" y="5516640"/>
            <a:ext cx="1368360" cy="433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ystem t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84800" y="1989000"/>
            <a:ext cx="171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equire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53160" y="2492280"/>
            <a:ext cx="16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pecif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220160" y="314172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宋体"/>
              </a:rPr>
              <a:t>Tree 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98800" y="3716280"/>
            <a:ext cx="23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enustyle function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954120" y="4365720"/>
            <a:ext cx="16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ebgen 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bjectiv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宋体"/>
              </a:rPr>
              <a:t>converting a text specification files into a series of structured web pag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宋体"/>
              </a:rPr>
              <a:t>navigated using drop-down men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宋体"/>
              </a:rPr>
              <a:t>Names &amp; links  in the meuntree.tx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宋体"/>
              </a:rPr>
              <a:t>Generate HTML pages for all the leaf nodes in the menutree.tx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quirements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宋体"/>
              </a:rPr>
              <a:t>Input fi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  <a:ea typeface="宋体"/>
              </a:rPr>
              <a:t>menutree.tx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  <a:ea typeface="宋体"/>
              </a:rPr>
              <a:t>webgen_template.tx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  <a:ea typeface="宋体"/>
              </a:rPr>
              <a:t>webgen_default.tx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  <a:ea typeface="宋体"/>
              </a:rPr>
              <a:t>menu_array_style.tx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宋体"/>
              </a:rPr>
              <a:t>Output fi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  <a:ea typeface="宋体"/>
              </a:rPr>
              <a:t>Generate HTML pages for all the leaf nodes in the menu tre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  <a:ea typeface="宋体"/>
              </a:rPr>
              <a:t>./website/target_js/menu_array.j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宋体"/>
              </a:rPr>
              <a:t>contains the JavaScript menu items &amp; the sty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  <a:ea typeface="宋体"/>
              </a:rPr>
              <a:t>./website/home/Home.tx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宋体"/>
              </a:rPr>
              <a:t>contains the input HTML for the Home pa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quirements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trai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ork only on Explorer 4 or Netscape 4 and u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mitation of the menu script (i.e. JavaScrip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pecification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nutree.tx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宋体"/>
              </a:rPr>
              <a:t>It contains the items of the menu. It’s description is in the specification she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宋体"/>
              </a:rPr>
              <a:t>Example: the menu tree of E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ample of menutree.tx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宋体"/>
              </a:rPr>
              <a:t>Hom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宋体"/>
              </a:rPr>
              <a:t>About Etisala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宋体"/>
              </a:rPr>
              <a:t>Stud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宋体"/>
              </a:rPr>
              <a:t>Course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宋体"/>
              </a:rPr>
              <a:t>Etisalat Univers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宋体"/>
              </a:rPr>
              <a:t>Vis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宋体"/>
              </a:rPr>
              <a:t>MEC/Welcom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宋体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宋体"/>
              </a:rPr>
              <a:t>MEC/Goal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宋体"/>
              </a:rPr>
              <a:t>Cours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宋体"/>
              </a:rPr>
              <a:t>Courses/B Eng in Engineer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宋体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宋体"/>
              </a:rPr>
              <a:t>Courses/B Sc in Busines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宋体"/>
              </a:rPr>
              <a:t>Graduat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宋体"/>
              </a:rPr>
              <a:t>Useful Link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avigation Cha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8000" y="2349360"/>
            <a:ext cx="889308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pecification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bgen_template.tx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宋体"/>
              </a:rPr>
              <a:t>contains the HTML for the header &amp; footer on each web pag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宋体"/>
              </a:rPr>
              <a:t>This file can be changed by the us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宋体"/>
              </a:rPr>
              <a:t>All headers and footers are the same in all generated html fil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pecification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宋体"/>
              </a:rPr>
              <a:t>webgen_default.tx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宋体"/>
              </a:rPr>
              <a:t>contains the HTML for the default ‘under construction’ pag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宋体"/>
              </a:rPr>
              <a:t>If the text file for the generated page is not made by the user the body of it will be from that fi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8T06:27:48Z</dcterms:created>
  <dc:creator>Spider</dc:creator>
  <dc:description/>
  <dc:language>en-US</dc:language>
  <cp:lastModifiedBy>tingea</cp:lastModifiedBy>
  <dcterms:modified xsi:type="dcterms:W3CDTF">2003-04-13T12:55:43Z</dcterms:modified>
  <cp:revision>46</cp:revision>
  <dc:subject/>
  <dc:title>An Automatic Website Generator </dc:title>
</cp:coreProperties>
</file>