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2A1F-61D0-4E7B-9AA6-A1313341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7950-1752-4D13-9FBE-12AD123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DF90-20B6-4ABC-AF0B-CDDA949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2E12-02E7-4ED6-8390-8864C23F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A543-8E18-4D46-8AD7-3CEFFBF2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AC8-A6F4-407E-90C1-19C7B56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B4D-B8D4-40D1-AFBB-BDED038F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C689-EFD0-4AF4-8B5F-6CEBCCC2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D0FE-9E33-47F2-9A85-BAC5A5F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E79-1F0E-4FE4-AEBF-FBCCFB5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B2D8-A5E8-42B2-B221-283EBB7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9F83-3E95-45FD-95DC-886619BC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4A3-88BF-4C29-8E07-62E3D13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481-7B5D-48FD-84FC-48CF0EC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0BAA-378C-45CE-8800-B303A11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86F-EE85-429F-B0F6-991EADC5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7D15-A388-4CFC-BB6A-37584C9E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7D9D-B79A-4F5A-AB37-591986E1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22DC-8DF7-4C1A-B9B1-63A11545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B651-0FE8-4927-8E18-E44E5064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BF50-3C75-4224-A4B5-74194060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D047-D671-448B-B7A0-90D9CC4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C5D2-721B-4861-8EFA-5A1B275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64A4-0160-4B99-8BC8-EA396F94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9F7B-927D-49E0-B3FA-8B28A8EBE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E1F0-8A5E-4FD8-8DD8-C1047E4E2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An Automatic Website Generator (WebGen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87280" y="1267920"/>
            <a:ext cx="7056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ress Present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Group Members: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hmed Abdulah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12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ser Al-zaabi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123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brahim Al-Jarwa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122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pervis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f. David Vern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290760"/>
            <a:ext cx="4218120" cy="179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4932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verting  text specification file into a series of structure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avigated using drop-down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ames &amp; links  in the meuntre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te HTML pages for all the leaf nodes in the menutree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Requirements and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pu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nutre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bgen_templat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bgen_default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nu_array_styl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tpu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enerate HTML pages for all the leaf nodes in the menu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/website/target_js/menu_array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ains the JavaScript menu items &amp; th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/website/home/Hom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ains the input HTML for the Hom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initi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ecking f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y Na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yntax of the menutre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playing a message of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ading the menutree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y Ibrah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oring items in a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tracting menu items fro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erating the contextLin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nerates the HTML fi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y Ahm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ding style’s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menu_array_style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nk menu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the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nu_array.j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&amp;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/sub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the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nu_array.js“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now done by Ibrah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e to its connectivity with the extracting of the menu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000" y="1628640"/>
          <a:ext cx="8964720" cy="3888000"/>
        </p:xfrm>
        <a:graphic>
          <a:graphicData uri="http://schemas.openxmlformats.org/drawingml/2006/table">
            <a:tbl>
              <a:tblPr/>
              <a:tblGrid>
                <a:gridCol w="3071880"/>
                <a:gridCol w="1968480"/>
                <a:gridCol w="1800000"/>
                <a:gridCol w="21243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 syntax of menutree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(8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ing &amp; Extracting menu 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ffici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ing 3D array into 2D arr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enerating context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06280" y="1600200"/>
          <a:ext cx="8686440" cy="4060440"/>
        </p:xfrm>
        <a:graphic>
          <a:graphicData uri="http://schemas.openxmlformats.org/drawingml/2006/table">
            <a:tbl>
              <a:tblPr/>
              <a:tblGrid>
                <a:gridCol w="2595600"/>
                <a:gridCol w="1975680"/>
                <a:gridCol w="1943640"/>
                <a:gridCol w="2171520"/>
              </a:tblGrid>
              <a:tr h="101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ading style’s parame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enerating HTML fi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(8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enerating “menu_array.j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im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example of the menutree.txt and the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fe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nodes can be URLs of web-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new ece college site in the example as show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7632720" cy="364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632720" cy="290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48Z</dcterms:created>
  <dc:creator>Spider</dc:creator>
  <dc:description/>
  <dc:language>en-US</dc:language>
  <cp:lastModifiedBy>tingea</cp:lastModifiedBy>
  <dcterms:modified xsi:type="dcterms:W3CDTF">2003-04-15T03:34:37Z</dcterms:modified>
  <cp:revision>79</cp:revision>
  <dc:subject/>
  <dc:title>An Automatic Website Generator </dc:title>
</cp:coreProperties>
</file>